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BAF-116B-491C-9903-3FF3BC81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3CB-6C08-4AD9-91D8-FFD7B8D5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B94-6326-4700-B660-CD179BE5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700-1AB0-4EF7-B9AC-03231FA0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EE9-2F1B-40B3-9622-979C14A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CB4-A85D-4B4B-9E8F-3E657267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523-06A9-446D-A690-592B64A5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D885-408C-45DA-A658-DD705B5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A08-17F5-4521-992E-E4CD64F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4540-EF0C-49C3-B115-A6AB0F29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2986-44C5-49FA-8ED9-892DBDEB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C61-537C-444A-834E-CA45292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4F7A-CAA3-4882-A126-7448B775E0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s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nnectives and Rhetorical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sive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Features of Effective Persuasio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5229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2124000" y="83664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se the following to make your argument even strong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1557360"/>
            <a:ext cx="871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connective is a word that is used to link one sentence to another or extend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do not yet know much about Jekyll himself,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although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 will find out more as the story progresses. We do, however, know more about Hyd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urthermore, the story is full of mystery”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se are effective as it allows you to create more complex sentences and also allows you to emphasise your points even mo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n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864216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hetoric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rhetorical question is when the speaker does not require an answ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s it not so, that....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re we supposed to just let Africa starve?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is an effective way of convincing someone to agree with you; they would have to be crazy (and wrong) to disagree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8:40:10Z</dcterms:created>
  <dc:creator>Gibb</dc:creator>
  <dc:description/>
  <dc:language>en-US</dc:language>
  <cp:lastModifiedBy>Gibb</cp:lastModifiedBy>
  <dcterms:modified xsi:type="dcterms:W3CDTF">2011-08-30T19:22:03Z</dcterms:modified>
  <cp:revision>5</cp:revision>
  <dc:subject/>
  <dc:title>Persuasive Writing</dc:title>
</cp:coreProperties>
</file>